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4.jpeg" ContentType="image/jpeg"/>
  <Override PartName="/ppt/media/image14.wmf" ContentType="image/x-wmf"/>
  <Override PartName="/ppt/media/image15.wmf" ContentType="image/x-wmf"/>
  <Override PartName="/ppt/media/image2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20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FBFE-5EC3-4DEE-9D8F-224104DDB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B69D-F72E-4F72-98D0-E37172B38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D934-FEBA-4B6F-A46F-08508C7D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E917D-6A40-4E90-A17C-39097DE14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6514-C44E-4CAE-8536-30771E54D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4F6C-C799-4D21-954C-27C76C670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7F45-CBCF-4CA3-9F9F-F1DA5846B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276-FE6F-4E71-BFD6-33F70A66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64A2-2248-4A3B-833D-08CB6269E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DD14-66D4-4C3F-96E0-EA4E6A2C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F585-4EAA-4980-A793-CC29E2ACD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A58-04E0-4692-BE15-3A2580DC9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54D5-2768-4829-8DF0-E9148BAB0CC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Verdana"/>
              </a:rPr>
              <a:t>SGBP3: doelafleiding voor het egg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349360"/>
            <a:ext cx="64008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“</a:t>
            </a: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Een haalbare en betaalbare stip op de horiz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Wim Twisk &amp; Gert van 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stip op de horizon"/>
          <p:cNvPicPr/>
          <p:nvPr/>
        </p:nvPicPr>
        <p:blipFill>
          <a:blip r:embed="rId1"/>
          <a:stretch/>
        </p:blipFill>
        <p:spPr>
          <a:xfrm>
            <a:off x="3203640" y="3284640"/>
            <a:ext cx="236520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Instru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Arial"/>
              </a:rPr>
              <a:t>Verkenn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8000"/>
                </a:solidFill>
                <a:latin typeface="Verdana"/>
              </a:rPr>
              <a:t>Effect EK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</a:rPr>
              <a:t>Koppeling met ESF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</a:rPr>
              <a:t>Tij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2843280" y="3357720"/>
            <a:ext cx="5124240" cy="278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Instru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Arial"/>
              </a:rPr>
              <a:t>Maatschappelijke sleutelfactoren (MSF’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8000"/>
                </a:solidFill>
                <a:latin typeface="Verdana"/>
              </a:rPr>
              <a:t>Ko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9900"/>
                </a:solidFill>
                <a:latin typeface="Verdana"/>
              </a:rPr>
              <a:t>Opbre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</a:rPr>
              <a:t>Bele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</a:rPr>
              <a:t>Gebru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wtw02"/>
          <p:cNvPicPr/>
          <p:nvPr/>
        </p:nvPicPr>
        <p:blipFill>
          <a:blip r:embed="rId1"/>
          <a:stretch/>
        </p:blipFill>
        <p:spPr>
          <a:xfrm>
            <a:off x="3780000" y="2133720"/>
            <a:ext cx="2800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Informat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7280" y="160020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8000"/>
                </a:solidFill>
                <a:latin typeface="Verdana"/>
              </a:rPr>
              <a:t>Huidige kw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9900"/>
                </a:solidFill>
                <a:latin typeface="Verdana"/>
              </a:rPr>
              <a:t>Generiek bele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9900"/>
                </a:solidFill>
                <a:latin typeface="Verdana"/>
              </a:rPr>
              <a:t>Autonome ontwikk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9900"/>
                </a:solidFill>
                <a:latin typeface="Verdana"/>
              </a:rPr>
              <a:t>Wensen gebruik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9640" y="3860640"/>
            <a:ext cx="3724560" cy="19908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572000" y="3860640"/>
            <a:ext cx="3672000" cy="195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kaderrichtlijn water"/>
          <p:cNvPicPr/>
          <p:nvPr/>
        </p:nvPicPr>
        <p:blipFill>
          <a:blip r:embed="rId1"/>
          <a:stretch/>
        </p:blipFill>
        <p:spPr>
          <a:xfrm>
            <a:off x="1979640" y="3284640"/>
            <a:ext cx="4762440" cy="3352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7561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Keuze opties: beperkt aantal toestanden en maatregelpakke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Interactieve besluitvorming: schaal, tijd, partij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Meningen, advies en besluiten: wie doet w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6" descr="landschappen 06"/>
          <p:cNvPicPr/>
          <p:nvPr/>
        </p:nvPicPr>
        <p:blipFill>
          <a:blip r:embed="rId1"/>
          <a:stretch/>
        </p:blipFill>
        <p:spPr>
          <a:xfrm>
            <a:off x="826920" y="2421000"/>
            <a:ext cx="5861160" cy="38527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Vervol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640872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Uitvoeren eigen verke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Gezamenlijke behoef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Gezamenlijke aanpa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333399"/>
                </a:solidFill>
                <a:latin typeface="Verdana"/>
              </a:rPr>
              <a:t>Ste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71280" y="1600200"/>
            <a:ext cx="705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99"/>
                </a:solidFill>
                <a:latin typeface="Arial"/>
              </a:rPr>
              <a:t>De maatschappelij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99"/>
                </a:solidFill>
                <a:latin typeface="Arial"/>
              </a:rPr>
              <a:t>sleutelfactoren zijn voor de keu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333399"/>
                </a:solidFill>
                <a:latin typeface="Arial"/>
              </a:rPr>
              <a:t>van waterkwaliteitsdoelen veel belangrijker dan de ecologische sleutelfactoren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333399"/>
                </a:solidFill>
                <a:latin typeface="Arial"/>
              </a:rPr>
              <a:t>MSF’s &gt;&gt;&gt; ESF’s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Aanleiding: Bruss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1763640" y="3662280"/>
            <a:ext cx="6697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Rol waterschapp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technisch advies GE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benoemen zinvolle maatreg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uitvoeren deel maatreg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 </a:t>
            </a: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inschatting effect alle maatreg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Afbeelding 1" descr=""/>
          <p:cNvPicPr/>
          <p:nvPr/>
        </p:nvPicPr>
        <p:blipFill>
          <a:blip r:embed="rId1"/>
          <a:stretch/>
        </p:blipFill>
        <p:spPr>
          <a:xfrm>
            <a:off x="2556000" y="1197000"/>
            <a:ext cx="390672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Aanleiding: Rij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55640" y="3645000"/>
            <a:ext cx="763272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Verkleinen doelgat d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25% door betere indicator dan ‘one-out-all-ou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50% door aanvullende generieke en </a:t>
            </a:r>
            <a:r>
              <a:rPr b="0" lang="nl-NL" sz="2400" spc="-1" strike="noStrike" u="sng">
                <a:solidFill>
                  <a:srgbClr val="333399"/>
                </a:solidFill>
                <a:uFillTx/>
                <a:latin typeface="Verdana"/>
              </a:rPr>
              <a:t>gebiedsgerichte</a:t>
            </a: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 maatrege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25% door realistischere doelformulering waterbehee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Afbeelding 1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6800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Aanleiding: eigen omge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71640" y="1600200"/>
            <a:ext cx="72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Al jaren discussie over gewenste toe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Klachten over slechte én over goede waterkwalite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Verbetering lukt niet of maar mondjesma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Financiën (waterkwaliteit) onder dr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Ervaringen met GEP afleiding en toetsingsresult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Watersch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	</a:t>
            </a: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de “probleemeigenaa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blauwalg"/>
          <p:cNvPicPr/>
          <p:nvPr/>
        </p:nvPicPr>
        <p:blipFill>
          <a:blip r:embed="rId1"/>
          <a:stretch/>
        </p:blipFill>
        <p:spPr>
          <a:xfrm>
            <a:off x="5148360" y="4005360"/>
            <a:ext cx="3635280" cy="24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Waterschappen: de uitda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735600" y="2997360"/>
            <a:ext cx="2408400" cy="243828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6560" y="1413000"/>
            <a:ext cx="69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Benoemen opgave en oploss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Vertalen maatschappelijke wensen naar  “waterkwaliteitsbeelde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Vertalen van watersysteem eigenschappen naar (on)mogelijkhe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Begrijpbaar verhaal voor alle betrokk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Mogelijk maken interactieve besluitvor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……</a:t>
            </a: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Geaccepteerd en herkenbaar doel dat (hopelijk) wordt gehaa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fbeelding 1" descr=""/>
          <p:cNvPicPr/>
          <p:nvPr/>
        </p:nvPicPr>
        <p:blipFill>
          <a:blip r:embed="rId1"/>
          <a:stretch/>
        </p:blipFill>
        <p:spPr>
          <a:xfrm>
            <a:off x="3017880" y="3159000"/>
            <a:ext cx="3378240" cy="22431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Aanpak: visu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blauwalg"/>
          <p:cNvPicPr/>
          <p:nvPr/>
        </p:nvPicPr>
        <p:blipFill>
          <a:blip r:embed="rId2"/>
          <a:stretch/>
        </p:blipFill>
        <p:spPr>
          <a:xfrm>
            <a:off x="755640" y="2205000"/>
            <a:ext cx="2598840" cy="17319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kanaal-bootje"/>
          <p:cNvPicPr/>
          <p:nvPr/>
        </p:nvPicPr>
        <p:blipFill>
          <a:blip r:embed="rId3"/>
          <a:stretch/>
        </p:blipFill>
        <p:spPr>
          <a:xfrm>
            <a:off x="5364000" y="2276640"/>
            <a:ext cx="3054600" cy="20239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landschappen 01"/>
          <p:cNvPicPr/>
          <p:nvPr/>
        </p:nvPicPr>
        <p:blipFill>
          <a:blip r:embed="rId4"/>
          <a:stretch/>
        </p:blipFill>
        <p:spPr>
          <a:xfrm>
            <a:off x="5292720" y="4869000"/>
            <a:ext cx="2232000" cy="15382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900000" y="385452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3ba"/>
                </a:solidFill>
                <a:latin typeface="Verdana"/>
              </a:rPr>
              <a:t>gezondhe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6948360" y="4292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3ba"/>
                </a:solidFill>
                <a:latin typeface="Verdana"/>
              </a:rPr>
              <a:t>recreat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2340000" y="59500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3ba"/>
                </a:solidFill>
                <a:latin typeface="Verdana"/>
              </a:rPr>
              <a:t>belev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7596360" y="530064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3ba"/>
                </a:solidFill>
                <a:latin typeface="Verdana"/>
              </a:rPr>
              <a:t>landbou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564000" y="263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73ba"/>
                </a:solidFill>
                <a:latin typeface="Verdana"/>
              </a:rPr>
              <a:t>Ec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Afbeelding 2" descr=""/>
          <p:cNvPicPr/>
          <p:nvPr/>
        </p:nvPicPr>
        <p:blipFill>
          <a:blip r:embed="rId5"/>
          <a:stretch/>
        </p:blipFill>
        <p:spPr>
          <a:xfrm>
            <a:off x="755640" y="4232160"/>
            <a:ext cx="259884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Aanpak: aanzet werksch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Afbeelding 2" descr=""/>
          <p:cNvPicPr/>
          <p:nvPr/>
        </p:nvPicPr>
        <p:blipFill>
          <a:blip r:embed="rId1"/>
          <a:stretch/>
        </p:blipFill>
        <p:spPr>
          <a:xfrm>
            <a:off x="1547640" y="1803240"/>
            <a:ext cx="634716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Instru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6560" y="1844280"/>
            <a:ext cx="7417080" cy="416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Toestand en beoordel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8000"/>
                </a:solidFill>
                <a:latin typeface="Verdana"/>
              </a:rPr>
              <a:t>KRW Maatla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8000"/>
                </a:solidFill>
                <a:latin typeface="Verdana"/>
              </a:rPr>
              <a:t>Instructie bemons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9900"/>
                </a:solidFill>
                <a:latin typeface="Verdana"/>
              </a:rPr>
              <a:t>Evaluatie beoordeli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</a:rPr>
              <a:t>Herkenbare presenta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KP nieuwe situatie natuurlijke oever"/>
          <p:cNvPicPr/>
          <p:nvPr/>
        </p:nvPicPr>
        <p:blipFill>
          <a:blip r:embed="rId1"/>
          <a:stretch/>
        </p:blipFill>
        <p:spPr>
          <a:xfrm>
            <a:off x="5508720" y="1484280"/>
            <a:ext cx="30146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333399"/>
                </a:solidFill>
                <a:latin typeface="Verdana"/>
              </a:rPr>
              <a:t>Instrumen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2012760" cy="14731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468360" y="2781360"/>
            <a:ext cx="2014560" cy="1473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468360" y="4365720"/>
            <a:ext cx="2103480" cy="14731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7"/>
          <p:cNvSpPr/>
          <p:nvPr/>
        </p:nvSpPr>
        <p:spPr>
          <a:xfrm>
            <a:off x="3780000" y="1341360"/>
            <a:ext cx="3313080" cy="32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Systeemanaly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8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8000"/>
                </a:solidFill>
                <a:latin typeface="Verdana"/>
              </a:rPr>
              <a:t>ESF’s 1-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9900"/>
                </a:solidFill>
                <a:latin typeface="Verdana"/>
              </a:rPr>
              <a:t>ESF’s 4-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0000"/>
                </a:solidFill>
                <a:latin typeface="Verdana"/>
              </a:rPr>
              <a:t>ESF’s 9</a:t>
            </a:r>
            <a:r>
              <a:rPr b="0" lang="nl-NL" sz="24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Afbeelding 1" descr=""/>
          <p:cNvPicPr/>
          <p:nvPr/>
        </p:nvPicPr>
        <p:blipFill>
          <a:blip r:embed="rId4"/>
          <a:stretch/>
        </p:blipFill>
        <p:spPr>
          <a:xfrm>
            <a:off x="3203640" y="4076640"/>
            <a:ext cx="534816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6T14:27:44Z</dcterms:created>
  <dc:creator>twisk</dc:creator>
  <dc:description/>
  <dc:language>en-US</dc:language>
  <cp:lastModifiedBy>beusekoma</cp:lastModifiedBy>
  <dcterms:modified xsi:type="dcterms:W3CDTF">2014-04-14T09:26:30Z</dcterms:modified>
  <cp:revision>14</cp:revision>
  <dc:subject/>
  <dc:title>SGBP3 op weg naar een nieuwe methode van doelafleiding?</dc:title>
</cp:coreProperties>
</file>