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wmf" ContentType="image/x-wmf"/>
  <Override PartName="/ppt/media/image11.png" ContentType="image/png"/>
  <Override PartName="/ppt/media/image7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wmf" ContentType="image/x-wmf"/>
  <Override PartName="/ppt/media/image5.jpeg" ContentType="image/jpeg"/>
  <Override PartName="/ppt/media/image10.jpeg" ContentType="image/jpeg"/>
  <Override PartName="/ppt/media/image1.png" ContentType="image/png"/>
  <Override PartName="/ppt/media/image3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563040" y="455760"/>
            <a:ext cx="6201000" cy="4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61960" y="115560"/>
            <a:ext cx="317016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651960" y="950760"/>
            <a:ext cx="4800600" cy="36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bc7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563040" y="4735080"/>
            <a:ext cx="499284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561960" y="9120240"/>
            <a:ext cx="64454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ntuele voettek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6990840" y="9120240"/>
            <a:ext cx="24300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39D51-EA41-41E8-9925-050F6FF22EE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ubriceringEnMerking2"/>
          <p:cNvSpPr/>
          <p:nvPr/>
        </p:nvSpPr>
        <p:spPr>
          <a:xfrm rot="16200000">
            <a:off x="5174640" y="2835720"/>
            <a:ext cx="38797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ubriceringEnMerking"/>
          <p:cNvSpPr/>
          <p:nvPr/>
        </p:nvSpPr>
        <p:spPr>
          <a:xfrm rot="16200000">
            <a:off x="5172840" y="6648840"/>
            <a:ext cx="38797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KRW gaat uit van een referentie toestand zonder menselijke invlo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840276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" y="4232160"/>
            <a:ext cx="840276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3960" y="206964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000" y="423216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3960" y="423216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2705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9120" y="2069640"/>
            <a:ext cx="2705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50240" y="2069640"/>
            <a:ext cx="2705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000" y="4232160"/>
            <a:ext cx="2705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9120" y="4232160"/>
            <a:ext cx="2705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50240" y="4232160"/>
            <a:ext cx="2705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68000" y="2069640"/>
            <a:ext cx="840276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840276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4100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3960" y="2069640"/>
            <a:ext cx="4100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000" y="1295280"/>
            <a:ext cx="840276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3960" y="2069640"/>
            <a:ext cx="4100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000" y="423216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000" y="2069640"/>
            <a:ext cx="840276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4100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3960" y="206964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3960" y="423216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3960" y="206964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000" y="4232160"/>
            <a:ext cx="840276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840276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" y="4232160"/>
            <a:ext cx="840276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3960" y="206964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000" y="423216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3960" y="423216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2705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09120" y="2069640"/>
            <a:ext cx="2705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50240" y="2069640"/>
            <a:ext cx="2705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000" y="4232160"/>
            <a:ext cx="2705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09120" y="4232160"/>
            <a:ext cx="2705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50240" y="4232160"/>
            <a:ext cx="2705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840276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4100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3960" y="2069640"/>
            <a:ext cx="4100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000" y="1295280"/>
            <a:ext cx="840276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3960" y="2069640"/>
            <a:ext cx="4100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" y="423216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4100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3960" y="206964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3960" y="423216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3960" y="206964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4232160"/>
            <a:ext cx="840276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pKleurvlakOnder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f9e1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000" y="2069640"/>
            <a:ext cx="840276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65160" indent="-3427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8892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631880" indent="-2858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631880" indent="-2858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631880" indent="-2858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shpTekst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9e1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bc7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4" name="shpBeeldmerk"/>
          <p:cNvSpPr/>
          <p:nvPr/>
        </p:nvSpPr>
        <p:spPr>
          <a:xfrm>
            <a:off x="468360" y="6613560"/>
            <a:ext cx="19033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6001-99CF-40FC-B512-DD1D91A54AD5}" type="slidenum">
              <a:rPr b="0" lang="nl-NL" sz="10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TitelSlide2"/>
          <p:cNvSpPr/>
          <p:nvPr/>
        </p:nvSpPr>
        <p:spPr>
          <a:xfrm>
            <a:off x="5037120" y="6613560"/>
            <a:ext cx="24145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latform mere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ZwarteBalk" hidden="1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LogoLandmacht" descr=""/>
          <p:cNvPicPr/>
          <p:nvPr/>
        </p:nvPicPr>
        <p:blipFill>
          <a:blip r:embed="rId2"/>
          <a:stretch/>
        </p:blipFill>
        <p:spPr>
          <a:xfrm>
            <a:off x="4335480" y="4680"/>
            <a:ext cx="439560" cy="839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264080" y="6613200"/>
            <a:ext cx="1508040" cy="1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2CDC-6064-4955-AEDC-6DF47902ABC9}" type="datetime3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8 juli 2026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14 november 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89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9e1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57"/>
          <p:cNvSpPr/>
          <p:nvPr/>
        </p:nvSpPr>
        <p:spPr>
          <a:xfrm>
            <a:off x="4933800" y="2475000"/>
            <a:ext cx="35989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ZwarteBalk" hidden="1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LogoLandmacht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998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68000" y="2069640"/>
            <a:ext cx="840276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65160" indent="-3427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8892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631880" indent="-2858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631880" indent="-2858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631880" indent="-2858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bc7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5036760" y="6516720"/>
            <a:ext cx="393084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312B-84EA-4D3C-8C2F-772EA59F5611}" type="datetime3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upload.wikimedia.org/wikipedia/commons/6/67/2750vc_ex_leg_copy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3280" y="3936600"/>
            <a:ext cx="3598920" cy="3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oelafleiding</a:t>
            </a: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605480" y="4653000"/>
            <a:ext cx="453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Marcel van den Ber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908000" y="1581120"/>
            <a:ext cx="5276880" cy="5276880"/>
          </a:xfrm>
          <a:prstGeom prst="rect">
            <a:avLst/>
          </a:prstGeom>
          <a:ln w="0">
            <a:noFill/>
          </a:ln>
        </p:spPr>
      </p:pic>
      <p:sp>
        <p:nvSpPr>
          <p:cNvPr id="179" name="Titel 1"/>
          <p:cNvSpPr/>
          <p:nvPr/>
        </p:nvSpPr>
        <p:spPr>
          <a:xfrm>
            <a:off x="324000" y="1052640"/>
            <a:ext cx="8402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7bc7"/>
                </a:solidFill>
                <a:latin typeface="Verdana"/>
              </a:rPr>
              <a:t>Too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1263600"/>
            <a:ext cx="61722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7bc7"/>
                </a:solidFill>
                <a:latin typeface="Verdana"/>
              </a:rPr>
              <a:t>Andere tools</a:t>
            </a: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W verkenn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mpirische modelrege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ndere modelregels voor specifieke kwaliteitselement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ysteem analyses met modellen voor individuele meren (pc-lake, modellen voor vis, waterplanten etc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55440" y="-3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-55440" y="-309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173560" y="163980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-55440" y="67644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08720" y="4869000"/>
            <a:ext cx="1656000" cy="1212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1263600"/>
            <a:ext cx="61722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7bc7"/>
                </a:solidFill>
                <a:latin typeface="Verdana"/>
              </a:rPr>
              <a:t>Uitdagingen bij GEP afleiding</a:t>
            </a: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aatlat en referentie voor natuurlijke wateren –meest gelijkend type- is de ba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Veronderstelt kennis van effect van hydromorfologische ingrepen primair en secund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Veronderstelt kwantitatieve inschatting van effect van maatregel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Biologische toestand is een perfecte en directe afspiegeling van de menselijke dru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e kennen de menselijke druk precies en hun onderlinge verhoudingen en effect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en voordeel bij GEPs: individuele benadering van een waterlichaam is mogelij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-55440" y="-3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-55440" y="-309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5173560" y="163980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-55440" y="67644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020000" y="5013360"/>
            <a:ext cx="1944720" cy="1216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240" y="1263600"/>
            <a:ext cx="61722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7bc7"/>
                </a:solidFill>
                <a:latin typeface="Verdana"/>
              </a:rPr>
              <a:t>Andere uitdagingen bij doelafleiding</a:t>
            </a: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Heeft een meer met hoge mosselfiltratie nog last –in krw termen- van eutrofiering als algen laag zijn maar nutriënten nog hoog? (bv Volkerak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Is het realistisch om in boezemmeren (bv Friesland) overal helder waterplantenrijk waterplanten na te streven? En kan een lager doel dan via GEP of is een doelverlaging nodig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Is het nodig om voor elk waterlichaam een water/stoffen balans + modelstudie (Pc lake bv) te maken om een goed doelen af te leiden / maatregelenpakket te maken? Of is meer cq. minder nodig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-55440" y="-3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-55440" y="-309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5173560" y="163980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732720" y="4292640"/>
            <a:ext cx="2087280" cy="1927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00720" y="4292640"/>
            <a:ext cx="1968480" cy="1940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68360" y="1295280"/>
            <a:ext cx="8402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7bc7"/>
                </a:solidFill>
                <a:latin typeface="Verdana"/>
              </a:rPr>
              <a:t>Vragen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1669680" y="2492280"/>
            <a:ext cx="4126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Doelafleiding is geen roulette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1064880"/>
            <a:ext cx="617220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nl-NL" sz="2600" spc="-1" strike="noStrike">
                <a:solidFill>
                  <a:srgbClr val="007bc7"/>
                </a:solidFill>
                <a:latin typeface="Verdana"/>
              </a:rPr>
              <a:t>Afleiding doelen</a:t>
            </a: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Hoe doen onze buren dat? – anekdo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 NLse waterkwaliteit tov natuurlijk wa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at en wanneer doelen voor sterk veranderd wa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oninklijk en Praa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itdaging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-55440" y="-3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-55440" y="-309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5173560" y="163980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-55440" y="67644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617220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nl-NL" sz="2600" spc="-1" strike="noStrike">
                <a:solidFill>
                  <a:srgbClr val="007bc7"/>
                </a:solidFill>
                <a:latin typeface="Verdana"/>
              </a:rPr>
              <a:t>Anekdote</a:t>
            </a: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-55440" y="-3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-55440" y="-309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173560" y="163980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-55440" y="67644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6818400" cy="3941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435640" y="4483080"/>
            <a:ext cx="3398760" cy="2054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1294920"/>
            <a:ext cx="8402760" cy="3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7bc7"/>
                </a:solidFill>
                <a:latin typeface="Verdana"/>
              </a:rPr>
              <a:t>Is dit de referentie?</a:t>
            </a: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840276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00040" y="1844640"/>
            <a:ext cx="3552840" cy="4292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File:2750vc ex leg copy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97320" y="1844640"/>
            <a:ext cx="34466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765648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7bc7"/>
                </a:solidFill>
                <a:latin typeface="Verdana"/>
              </a:rPr>
              <a:t>En hoe ver zitten we daar dan vandaan?</a:t>
            </a: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48686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ogelijke interpretatie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 GET doelen zijn helemaal niet extreem hoog (kwart voldeed al in 2009), en doelen zijn realiseerbaar (vb. fytoplankto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 GET doelen zijn helemaal niet extreem hoog maar de opgave is in werkelijkheid moeilijk te overbruggen met maatregel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r klopt niets van de maatlatten en de toestandsbepal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-55440" y="-3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-55440" y="-309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5173560" y="163980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-55440" y="67644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2205000"/>
            <a:ext cx="8989920" cy="2781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5003640" cy="2319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872360" y="1628640"/>
            <a:ext cx="82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6409440" y="1628640"/>
            <a:ext cx="82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201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tel 1"/>
          <p:cNvSpPr/>
          <p:nvPr/>
        </p:nvSpPr>
        <p:spPr>
          <a:xfrm>
            <a:off x="468360" y="1125360"/>
            <a:ext cx="8402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7bc7"/>
                </a:solidFill>
                <a:latin typeface="Verdana"/>
              </a:rPr>
              <a:t>De sterk veranderde wateren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5280" y="407664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905360" y="4038480"/>
            <a:ext cx="4238640" cy="2819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16000" y="1628640"/>
            <a:ext cx="3460680" cy="2589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7164360" y="1197000"/>
            <a:ext cx="2266920" cy="170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4140360" y="2997360"/>
            <a:ext cx="316836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1263600"/>
            <a:ext cx="61722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7bc7"/>
                </a:solidFill>
                <a:latin typeface="Verdana"/>
              </a:rPr>
              <a:t>De twee voorwaarden</a:t>
            </a: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ignificant effect op gebruiksfuncties als je naar GET zou willen herstell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r zijn geen andere mogelijkheden om die functies te dienen omd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at te duur is o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Technische onmogelijk is o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Niet beter is voor het milie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Goede motivaties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-55440" y="-3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-55440" y="-309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173560" y="163980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-55440" y="67644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64880"/>
            <a:ext cx="617220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7bc7"/>
                </a:solidFill>
                <a:latin typeface="Verdana"/>
              </a:rPr>
              <a:t>De twee methoden ‘koninklijk’ en ‘praags’</a:t>
            </a: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 ‘koninklijke’ weg redeneert vanuit de referentie en wat niet meer kan (je trekt de biologische effecten van hydromorfologie af van het GET/REF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 Praagse methode redeneert vanuit wat wel kan (je telt effecten van de maatregelen die je wel kan nemen op bij de huidige toestand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Beide methoden zijn geaccordeerd door de Europese Waterdirecteur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Beide methode zijn toegepast in de eerste rond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legante tussenoplossing: via de maatlatten kijken wel soorten je er nog bij kan krijgen als je mitigerende maatregelen neemt en dan je score uitreken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-55440" y="-3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-55440" y="-309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173560" y="163980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-55440" y="67644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343320" y="990720"/>
            <a:ext cx="22590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&amp;W Syntax (Adobe)"/>
              </a:rPr>
              <a:t>Helderhe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6399360" y="2225520"/>
            <a:ext cx="2058840" cy="54792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&amp;W Syntax (Adobe)"/>
              </a:rPr>
              <a:t>Al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812960"/>
            <a:ext cx="22590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&amp;W Syntax (Adobe)"/>
              </a:rPr>
              <a:t>Zwevend st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5203800" y="2979720"/>
            <a:ext cx="1992240" cy="6174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&amp;W Syntax (Adobe)"/>
              </a:rPr>
              <a:t>Vo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1881360" y="2773440"/>
            <a:ext cx="2192040" cy="6174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&amp;W Syntax (Adobe)"/>
              </a:rPr>
              <a:t>Waterdiep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3343320" y="3665520"/>
            <a:ext cx="2259000" cy="6858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&amp;W Syntax (Adobe)"/>
              </a:rPr>
              <a:t>Waterplan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4870440" y="4762440"/>
            <a:ext cx="2259000" cy="6858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&amp;W Syntax (Adobe)"/>
              </a:rPr>
              <a:t>Giftige stoff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1881360" y="4762440"/>
            <a:ext cx="2259000" cy="6858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&amp;W Syntax (Adobe)"/>
              </a:rPr>
              <a:t>Golv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5602320" y="5791320"/>
            <a:ext cx="2257560" cy="6858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&amp;W Syntax (Adobe)"/>
              </a:rPr>
              <a:t>Zooplankt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1017720" y="5791320"/>
            <a:ext cx="2259000" cy="6858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&amp;W Syntax (Adobe)"/>
              </a:rPr>
              <a:t>Benthivore v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1150560" y="2498760"/>
            <a:ext cx="531720" cy="3292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283760" y="2498400"/>
            <a:ext cx="730440" cy="2400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461360" y="2773440"/>
            <a:ext cx="398520" cy="3085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931080" y="2773440"/>
            <a:ext cx="730080" cy="2125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741840" y="4351320"/>
            <a:ext cx="264960" cy="479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3640" y="4282920"/>
            <a:ext cx="398520" cy="5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3343320" y="3390840"/>
            <a:ext cx="331920" cy="34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402160" y="3527280"/>
            <a:ext cx="200160" cy="27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471920" y="1676520"/>
            <a:ext cx="0" cy="1989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081160" y="1401840"/>
            <a:ext cx="1262160" cy="411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5602320" y="1333440"/>
            <a:ext cx="2457360" cy="892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6134040"/>
            <a:ext cx="2325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4471920" y="4351320"/>
            <a:ext cx="0" cy="178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1700280"/>
            <a:ext cx="1993680" cy="54936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&amp;W Syntax (Adobe)"/>
              </a:rPr>
              <a:t>Mossel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944800" y="1951200"/>
            <a:ext cx="1859040" cy="204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730920" y="2773080"/>
            <a:ext cx="200160" cy="206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6199200" y="2225520"/>
            <a:ext cx="266760" cy="136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5203800" y="1608120"/>
            <a:ext cx="131760" cy="136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0" y="4076640"/>
            <a:ext cx="5175360" cy="2781360"/>
            <a:chOff x="0" y="4076640"/>
            <a:chExt cx="5175360" cy="2781360"/>
          </a:xfrm>
        </p:grpSpPr>
        <p:sp>
          <p:nvSpPr>
            <p:cNvPr id="173" name=""/>
            <p:cNvSpPr/>
            <p:nvPr/>
          </p:nvSpPr>
          <p:spPr>
            <a:xfrm>
              <a:off x="0" y="4653000"/>
              <a:ext cx="1511280" cy="7207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V&amp;W Syntax (Adobe)"/>
                </a:rPr>
                <a:t>Waterpeil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403280" y="4076640"/>
              <a:ext cx="201636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16360" y="6172200"/>
              <a:ext cx="225900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V&amp;W Syntax (Adobe)"/>
                </a:rPr>
                <a:t>overige vi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140000" y="4365720"/>
              <a:ext cx="14436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7" name="Titel 1"/>
          <p:cNvSpPr/>
          <p:nvPr/>
        </p:nvSpPr>
        <p:spPr>
          <a:xfrm>
            <a:off x="324000" y="260280"/>
            <a:ext cx="428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7bc7"/>
                </a:solidFill>
                <a:latin typeface="Verdana"/>
              </a:rPr>
              <a:t>Too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1:13:41Z</dcterms:created>
  <dc:creator>DocGen</dc:creator>
  <dc:description/>
  <dc:language>en-US</dc:language>
  <cp:lastModifiedBy>bergm</cp:lastModifiedBy>
  <cp:lastPrinted>2011-09-21T07:52:24Z</cp:lastPrinted>
  <dcterms:modified xsi:type="dcterms:W3CDTF">2014-03-25T07:08:16Z</dcterms:modified>
  <cp:revision>85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fdeling">
    <vt:lpwstr>Afdeling</vt:lpwstr>
  </property>
  <property fmtid="{D5CDD505-2E9C-101B-9397-08002B2CF9AE}" pid="3" name="Auteur">
    <vt:lpwstr>Auteur</vt:lpwstr>
  </property>
  <property fmtid="{D5CDD505-2E9C-101B-9397-08002B2CF9AE}" pid="4" name="Datum">
    <vt:filetime>1999-12-31T22:00:00Z</vt:filetime>
  </property>
  <property fmtid="{D5CDD505-2E9C-101B-9397-08002B2CF9AE}" pid="5" name="Functie">
    <vt:lpwstr>Functie</vt:lpwstr>
  </property>
  <property fmtid="{D5CDD505-2E9C-101B-9397-08002B2CF9AE}" pid="6" name="Merking">
    <vt:lpwstr>Merking</vt:lpwstr>
  </property>
  <property fmtid="{D5CDD505-2E9C-101B-9397-08002B2CF9AE}" pid="7" name="Rubricering">
    <vt:lpwstr>Rubricering</vt:lpwstr>
  </property>
  <property fmtid="{D5CDD505-2E9C-101B-9397-08002B2CF9AE}" pid="8" name="Subtitel">
    <vt:lpwstr>Subtitel</vt:lpwstr>
  </property>
  <property fmtid="{D5CDD505-2E9C-101B-9397-08002B2CF9AE}" pid="9" name="Titel">
    <vt:lpwstr>Titel</vt:lpwstr>
  </property>
</Properties>
</file>