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91DB-C5E8-4F0D-A28F-DA44AA79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7D0-D747-4372-85F8-C6054210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CD3-B2F2-41B6-AB0E-F42404036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BB0B-B1BD-47F3-B58D-C6CCB3257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70C2-2DBF-44AD-8A6B-3B68BB44A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4F8-7E16-47FA-A8E2-928ED797F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2CBC-BBD9-4082-9099-08229F63D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FBCF-BCC3-4699-871D-59BE41C7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FF98-37FC-417C-87DE-1FCC49B8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7DC-F4A1-4DF6-8A9F-4CB90F33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0C21-3768-4539-8299-E1BE51E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31BA-1B94-4D4D-9BDA-57D9E1E0B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71D1-7EB8-481F-8803-8819F37BC6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Verdana"/>
              </a:rPr>
              <a:t>SGBP3: doelafleiding voor het eg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360"/>
            <a:ext cx="6400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Een haalbare en betaalbare stip op de horiz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Wim Twisk &amp; Gert van 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tip op de horizon"/>
          <p:cNvPicPr/>
          <p:nvPr/>
        </p:nvPicPr>
        <p:blipFill>
          <a:blip r:embed="rId1"/>
          <a:stretch/>
        </p:blipFill>
        <p:spPr>
          <a:xfrm>
            <a:off x="3203640" y="3284640"/>
            <a:ext cx="23652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Verken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Effect E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Koppeling met ESF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512424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Maatschappelijke sleutelfactoren (MSF’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Opbre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Bel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wtw02"/>
          <p:cNvPicPr/>
          <p:nvPr/>
        </p:nvPicPr>
        <p:blipFill>
          <a:blip r:embed="rId1"/>
          <a:stretch/>
        </p:blipFill>
        <p:spPr>
          <a:xfrm>
            <a:off x="3780000" y="2133720"/>
            <a:ext cx="2800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form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Huidige kw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Generiek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Autonome ontwikk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Wensen gebrui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724560" cy="199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36720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kaderrichtlijn water"/>
          <p:cNvPicPr/>
          <p:nvPr/>
        </p:nvPicPr>
        <p:blipFill>
          <a:blip r:embed="rId1"/>
          <a:stretch/>
        </p:blipFill>
        <p:spPr>
          <a:xfrm>
            <a:off x="1979640" y="328464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56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Keuze opties: beperkt aantal toestanden en maatregelpakk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Interactieve besluitvorming: schaal, tijd,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Meningen, advies en besluiten: wie doet w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landschappen 06"/>
          <p:cNvPicPr/>
          <p:nvPr/>
        </p:nvPicPr>
        <p:blipFill>
          <a:blip r:embed="rId1"/>
          <a:stretch/>
        </p:blipFill>
        <p:spPr>
          <a:xfrm>
            <a:off x="826920" y="2421000"/>
            <a:ext cx="5861160" cy="385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Vervol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64087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Uitvoeren eigen verke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Gezamenlijke behoef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Gezamenlijke aanpa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Verdana"/>
              </a:rPr>
              <a:t>St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De maatschappelij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sleutelfactoren zijn voor de k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van waterkwaliteitsdoelen veel belangrijker dan de ecologische sleutelfactor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MSF’s &gt;&gt;&gt; ESF’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leiding: Bru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63640" y="3662280"/>
            <a:ext cx="6697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Rol waterschap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technisch advies G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benoemen zinvoll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uitvoeren deel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inschatting effect all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390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leiding: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3645000"/>
            <a:ext cx="7632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kleinen doelgat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25% door betere indicator dan ‘one-out-all-ou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50% door aanvullende generieke en </a:t>
            </a:r>
            <a:r>
              <a:rPr b="0" lang="nl-NL" sz="2400" spc="-1" strike="noStrike" u="sng">
                <a:solidFill>
                  <a:srgbClr val="333399"/>
                </a:solidFill>
                <a:uFillTx/>
                <a:latin typeface="Verdana"/>
              </a:rPr>
              <a:t>gebiedsgerichte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25% door realistischere doelformulering waterbehee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Afbeelding 1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8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leiding: eigen om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Al jaren discussie over gewenste 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Klachten over slechte én over goede waterkw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betering lukt niet of maar mondjes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Financiën (waterkwaliteit) onder dr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Ervaringen met GEP afleiding en toetsing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Watersch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de “probleemeigena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lauwalg"/>
          <p:cNvPicPr/>
          <p:nvPr/>
        </p:nvPicPr>
        <p:blipFill>
          <a:blip r:embed="rId1"/>
          <a:stretch/>
        </p:blipFill>
        <p:spPr>
          <a:xfrm>
            <a:off x="5148360" y="4005360"/>
            <a:ext cx="36352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Waterschappen: de uitd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35600" y="2997360"/>
            <a:ext cx="2408400" cy="2438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69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Benoemen opgave en oploss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talen maatschappelijke wensen naar  “waterkwaliteitsbeeld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talen van watersysteem eigenschappen naar (on)mogelijk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Begrijpbaar verhaal voor alle 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Mogelijk maken interactiev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……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Geaccepteerd en herkenbaar doel dat (hopelijk) wordt geh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"/>
          <p:cNvPicPr/>
          <p:nvPr/>
        </p:nvPicPr>
        <p:blipFill>
          <a:blip r:embed="rId1"/>
          <a:stretch/>
        </p:blipFill>
        <p:spPr>
          <a:xfrm>
            <a:off x="3017880" y="3159000"/>
            <a:ext cx="3378240" cy="2243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pak: visu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lauwalg"/>
          <p:cNvPicPr/>
          <p:nvPr/>
        </p:nvPicPr>
        <p:blipFill>
          <a:blip r:embed="rId2"/>
          <a:stretch/>
        </p:blipFill>
        <p:spPr>
          <a:xfrm>
            <a:off x="755640" y="22050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kanaal-bootje"/>
          <p:cNvPicPr/>
          <p:nvPr/>
        </p:nvPicPr>
        <p:blipFill>
          <a:blip r:embed="rId3"/>
          <a:stretch/>
        </p:blipFill>
        <p:spPr>
          <a:xfrm>
            <a:off x="5364000" y="2276640"/>
            <a:ext cx="3054600" cy="202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landschappen 01"/>
          <p:cNvPicPr/>
          <p:nvPr/>
        </p:nvPicPr>
        <p:blipFill>
          <a:blip r:embed="rId4"/>
          <a:stretch/>
        </p:blipFill>
        <p:spPr>
          <a:xfrm>
            <a:off x="5292720" y="4869000"/>
            <a:ext cx="2232000" cy="15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900000" y="3854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948360" y="429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340000" y="5950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be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596360" y="5300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landb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6400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Ec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Afbeelding 2" descr=""/>
          <p:cNvPicPr/>
          <p:nvPr/>
        </p:nvPicPr>
        <p:blipFill>
          <a:blip r:embed="rId5"/>
          <a:stretch/>
        </p:blipFill>
        <p:spPr>
          <a:xfrm>
            <a:off x="755640" y="4232160"/>
            <a:ext cx="25988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pak: aanzet werk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1547640" y="1803240"/>
            <a:ext cx="63471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17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Toestand en beoor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KRW Maatl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Instructie bemon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Evaluatie beoor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Herkenbare pres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KP nieuwe situatie natuurlijke oever"/>
          <p:cNvPicPr/>
          <p:nvPr/>
        </p:nvPicPr>
        <p:blipFill>
          <a:blip r:embed="rId1"/>
          <a:stretch/>
        </p:blipFill>
        <p:spPr>
          <a:xfrm>
            <a:off x="5508720" y="1484280"/>
            <a:ext cx="3014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012760" cy="14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014560" cy="147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103480" cy="1473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780000" y="1341360"/>
            <a:ext cx="33130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Systeem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ESF’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ESF’s 4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ESF’s 9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53481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4:27:44Z</dcterms:created>
  <dc:creator>twisk</dc:creator>
  <dc:description/>
  <dc:language>en-US</dc:language>
  <cp:lastModifiedBy>beusekoma</cp:lastModifiedBy>
  <dcterms:modified xsi:type="dcterms:W3CDTF">2014-04-14T09:26:30Z</dcterms:modified>
  <cp:revision>14</cp:revision>
  <dc:subject/>
  <dc:title>SGBP3 op weg naar een nieuwe methode van doelafleiding?</dc:title>
</cp:coreProperties>
</file>