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dt" idx="38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move the slide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ftr" idx="39"/>
          </p:nvPr>
        </p:nvSpPr>
        <p:spPr>
          <a:xfrm>
            <a:off x="-3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 type="sldNum" idx="40"/>
          </p:nvPr>
        </p:nvSpPr>
        <p:spPr>
          <a:xfrm>
            <a:off x="385416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1394-6C98-40AD-A1C1-93AA1B34AD36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1764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0760" y="4722480"/>
            <a:ext cx="544356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X-as landen, Y-as percentage waterlicha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lauw % wateren dat aan het doel voldoet, rood % wateren waarvoor ontheffing is gemotiveerd: doelen worden niet gehaald in 201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L bijna rechts, doelgat van 99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Beeld  door de Europese Commissie neergeze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en overgenomen door van PBL, CSB, Algemene Rekenkamer, OECD, et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Niet helemaal terecht, zo onderkent ook de Eur Ci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Methode one-out-all-out : als 1 parameter niet goed is dan hele waterlichaam niet goed. Hier wreekt zich dat NL het meest complete meetprogramma en beoordelingssysteem heeft. Fr en Sp hebben nog geen vissen gemete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Als ik de toestand in NL zou beoordelen dan zou ik me aansluiten bij constatering PB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Tijdelijke aanduiding voor dianummer 3"/>
          <p:cNvSpPr/>
          <p:nvPr/>
        </p:nvSpPr>
        <p:spPr>
          <a:xfrm>
            <a:off x="3854520" y="944568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2C983-9DE4-49E9-B961-A3B83975E798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F288C-59F4-443C-8240-45E1138E4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F21E-9AB2-4169-A9A8-A3B888711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03622-77EC-4180-BF1F-2D164DE4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3EE033-6529-4015-8303-37C5297B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2211F-D193-4B9A-B73F-4A22C778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3B8D2-CCF9-49FA-BEFB-583DF1F54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4E0694-5673-4AB7-AD47-2C14518D0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1DCAC-773F-40CA-AD40-923BDCDF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1CEB9-0179-4415-995D-434E60827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F37795-03F1-448F-9361-A01AC4E72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823B2-226E-49CA-A73D-652423C5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9C62511-ED97-45F9-A203-A318B4848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58D4-FD71-4187-8B58-A0E87DAE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38767C3-0689-4E0B-BC26-36BD4DD4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C9A952-84F3-4915-BD07-26F721C81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203C4AB-8B45-4BA9-8131-C95F5528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38D97A-9178-4C0A-A4F1-8A20F4EA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A282830-300A-4A0B-8AF4-C003DAEB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20DF6A8-B699-4A4E-B3FB-A264DDE1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42B9890-2CEC-476A-91CB-7D6C6C69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583815-8E6C-4E33-AC71-01F864625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D40D410-3D7F-4087-BF4A-9DDC17876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0BB901-6AD9-4B60-B393-883DC814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4FE00-30D3-438A-8EB2-0B82F9E3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DB3215-1271-40B1-8B82-C7B15CDAF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3F3FB06-047F-4172-96CE-E021CA0EE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F3DAB1E-32D4-4E16-A6A9-9CA8198B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1B377BD-6822-405D-923F-D0C949ACF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1524C8-666D-426A-A1D6-878C57CB2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B5C479F-6FCE-4ED6-9564-51A9A7691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40F939D-DE63-45C5-9048-338F3564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3807A53-5910-4264-878C-B036A164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D31BA1-9AA7-4E7E-9255-D6AAFE48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A1E3FB6-B3EA-4F44-9764-62C4D5C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B895BA-48E9-418E-89CF-F4FF7DA8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789ADFA-DFC1-466F-AC82-4DC800035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1512D3D-41D2-4B28-A563-949768A25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44C75E2-96EF-4799-A2C9-0C3F1ADEF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0156633-3A62-48F2-8811-02C649F5F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AA09AC-547C-40FC-BADD-11D484F4F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66C030-C4DE-40A5-94C7-19BFCC86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B4C2F41-3CA9-419D-A7FA-9C5AC4467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BE144B5-5745-4316-9A7E-2D928C080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CEABD4-76C2-40C2-B4E2-62ADED80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50C1F7B-63B7-475A-BEB1-4C65EDB0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E4E101E-A70D-422C-A457-A464D334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408A1A0-5B79-449A-8786-192B6195D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BB29A8F-7DDB-4F8C-9CA9-56869C18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E6D590-F566-42EF-8321-D8D20EC94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5D39B2F-0A45-4B73-A041-6210BA053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9C7A834-8E28-43F2-9948-37E664A64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5F0A34-1313-4D64-A6F4-973FCE99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3B70995-B374-44FB-9EAD-D6DBF076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030D68F-25E8-4367-96E8-5E02C096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20C9BB-AA6E-48F7-A0D1-9B644587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B1942B-827A-4CA1-9707-B70D73F93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5BDBE49-5732-4BB1-B8D3-AF7F4F67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BD8B4A5-396E-4E6A-9442-72F86FED2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A25FEEE-EEB8-40BD-97CF-0B0B123D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2BC7933-A59B-4ADA-B637-79BA84FF0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D2E3AC7-8961-4ABA-A6C6-6049D512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9B6D-B123-440E-984D-CE6FB2C86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F4AA0-FA88-4ECA-91F3-47A93B8FE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B7AB35-F126-46A7-A7B0-94D4C6421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A1754-602D-4CAB-A5D1-DD951A27B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915C8C-1F3D-49DC-8399-555AE085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773777-2A2C-4B39-897C-7C9C6538E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8280C-D1A9-463C-BBDB-BD0487A5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9F410B-300F-4A61-9617-5444344E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7B8EB-D80F-42E4-811B-BE616F19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7985C-322B-4C38-8299-E0D3B412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6D6B5D-3931-45A7-91ED-976D1054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201BDA-3ABA-486C-86B8-9DEF423D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84EBD1-9F1B-442E-AA65-20F6ECE38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15719-7286-4281-B942-481A87066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2C1C53-8CDE-409C-801E-287F67186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C69905-D7E4-4F2C-B51F-7DF44D49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1A1DBC-9F94-4AA1-A0FD-B0643AA63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E4B8-B679-4B96-95E8-53DA62F2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6FAC7-D163-4759-B870-F76BB2F3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641D8F-6693-4B06-B3B6-9356BFC0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F156A7-93FC-44C8-86CD-919BC8996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25F7D-F777-46F4-8F78-89D484A7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53EF19-9593-495E-8BEC-677B78B4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35BC87-DE8D-4133-A5A4-F4B4646E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864DE4-611A-499D-96D8-8219F4C3C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977C8C-65F6-4EF6-92F8-2919790D0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D113ED-0E6E-4EC8-A778-6D2A7DC6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BD00C1-EADC-4E1B-A904-B561307EC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6F914-3739-44EB-B407-5FC9B80F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3A079D-AD3B-4B6E-A9ED-9E8B900E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970064-3694-465C-A21A-29BF90D8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3C2F01-1C6E-4FA4-8E94-15DEBA5DC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39B61B-4E11-4BEA-BEB1-670C4CC2D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49C3D-0C74-4667-89BB-3D897483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A895E9-60B3-40D8-8E28-5B6C699A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01F887-763E-479B-BD51-41C5D5B1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C74B81-7262-4A17-B99B-239E0D57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61FE320-E41F-46D5-8B57-238404CBD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626B35-9727-409D-A339-30C3BE9DF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0240-232B-4E3F-89D7-66EE471FC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A4512E-FB23-48B5-80C1-61DFE8B7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AE320-D3B5-4DE7-8292-3575D0C2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C5A26B-96EA-4003-8912-BBC69199B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F1E11-4DB1-47F7-B13C-7E69A50E4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2FD3C-B12A-49E2-A3EF-CB2F240D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F78976-0E3E-400B-BD29-D766636A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1CEAA7-C1D7-4839-B976-764B70AA7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5D618C-4119-4D73-8CB6-9EE9F3AFB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700440-4F97-4C89-BEED-C226BFC4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FEED8F-EB6C-43D0-8708-56C4A0F8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449DA-9FCC-41D0-8AEC-5AFC3B83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70E175-0BA4-4E6E-BAA7-234AE0E88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A2A631-9FB0-4D3D-9069-639CA6922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B1EF12-BCB7-4562-8670-26D531BA2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C8EECF-6D52-427B-A08E-784894B9E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A9004E-5CFE-4FD9-8B99-BD2E3CFF4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D2AD05-DB51-478D-819D-C0C50854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AEC8852-449B-42E2-B620-6FBE217F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B9E036-8314-4633-92A8-2BCC8DC7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DA22FF-89CA-4E62-9547-A1D9B8EE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8AA775-8B75-4D03-AFB2-A410FB89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4F6AB-8F93-4BC6-A2BC-C7998C371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8E1D22-DF34-4B3C-B9B9-4785B69D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AB0E2-E166-4FC6-80D2-FA9E69D2C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D933A1-A3BA-40A1-97F9-18717C8E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426169-366A-47D2-B6EC-9B6D5FE05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04862-0BF1-4311-84EF-B1800791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E169000-2F04-4622-B1FD-9E08BD924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11AE14-D6F0-4CAC-8488-1296A5FC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BAF2BC-949A-4DBE-8CA1-90802DDA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850F7A-70E8-4CC8-81EF-439726414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83B551-B102-4721-9A12-2FF3D91A0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D414-847A-473F-8B06-1EDD0D54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66200" y="1293480"/>
            <a:ext cx="84013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15345D-0C6C-4D06-A2F7-6A26FA9F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FBB9E-24B0-4108-9D97-DD103054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DBB2A02-AEB9-43E0-91A9-68A57F8FA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103B3E-A483-4683-B3C7-134B10641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200" y="4230360"/>
            <a:ext cx="840132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F49F08-144E-45FD-A5F5-CEC755ABB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71080" y="20685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620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71080" y="4230360"/>
            <a:ext cx="409968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A10FE2A-40DD-4FA9-9353-A4B26A7E0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0696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47720" y="20685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620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0696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47720" y="4230360"/>
            <a:ext cx="2705040" cy="197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D025E9-8728-4199-BE07-E1A788EE6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82460-103C-4418-AA3C-AD1DEBC9F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F5BE36-B722-460E-A06B-D1E992F4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712AC-55C3-440A-8F68-AB3C4714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0192-B23C-4120-BCDA-C8FAA13BBE3C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E25AA-97B6-473E-A475-E986FFC105FB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4355640" y="6524280"/>
            <a:ext cx="273708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sldNum" idx="26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C1484-79CC-4147-A113-585BC2C2C75C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dt" idx="27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16AA4-AD3D-4733-8CB4-A68E708FE182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28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29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FB39-C1CE-40BB-A333-2938266B5B94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dt" idx="30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8C95-1302-4A12-A8F9-1E4B656BDE1E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ftr" idx="31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4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sldNum" idx="32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4DC1B-685A-4764-93D0-601F37CEB90A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dt" idx="33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63A19-19E6-4794-82CA-42AEF23E09D7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ftr" idx="34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8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35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46401-B42C-41D8-A117-EB3D3EE409DA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 type="dt" idx="36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A7BC-0569-4026-B935-4461F65D70FD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 type="ftr" idx="37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562640" y="0"/>
            <a:ext cx="4581360" cy="68580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Z:\KA\Carma\DocSys\Customers\VenW Rijksbreed\Models\Presentaties\background_pictures\logo wit\RO_VW_diap.png"/>
          <p:cNvPicPr/>
          <p:nvPr/>
        </p:nvPicPr>
        <p:blipFill>
          <a:blip r:embed="rId2"/>
          <a:srcRect l="46453" t="0" r="45685" b="20658"/>
          <a:stretch/>
        </p:blipFill>
        <p:spPr>
          <a:xfrm>
            <a:off x="4262400" y="0"/>
            <a:ext cx="669960" cy="14796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I:\AAA Logo's Infrastructuur en Milieu\IenM\Woordmerk voor Powerpoint_diap.png"/>
          <p:cNvPicPr/>
          <p:nvPr/>
        </p:nvPicPr>
        <p:blipFill>
          <a:blip r:embed="rId3"/>
          <a:stretch/>
        </p:blipFill>
        <p:spPr>
          <a:xfrm>
            <a:off x="4940280" y="609480"/>
            <a:ext cx="3822840" cy="8654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036760" y="6515280"/>
            <a:ext cx="3932280" cy="20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C980-F823-471E-AE2E-CA99EA737BDE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5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9F1F-1E8C-4DEB-83EA-36FA55AADA8D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6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85B3E-09B4-4AC3-AB1E-3B0A54DAA107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7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Num" idx="8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4448-7D3E-450B-A23F-19AD8AAAC1AA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dt" idx="9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27345-8125-41A0-A0C9-4BC69492F8FC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10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sldNum" idx="11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8D0E-EDAB-4759-8932-144C897F438F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dt" idx="12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FF711-A618-4BB3-8262-E68038D724CC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ftr" idx="13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4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83C9C-DF46-4088-AB12-9928064CDD45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5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73E41-A3E8-467D-BB5B-E98B85D7B3FF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6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sldNum" idx="17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D09B-C584-40B7-B5AB-EEF6BF47F786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dt" idx="18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375C-5686-4A42-9828-1D52C97875AA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19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Num" idx="20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6F77-7725-49F4-946A-9329A24756F4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dt" idx="21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56D6-BF58-4D1E-AEF0-892C558C78E8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22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0"/>
            <a:ext cx="9144000" cy="101124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0" y="6350040"/>
            <a:ext cx="9144000" cy="50796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9" descr="Z:\KA\Carma\DocSys\Customers\VenW Rijksbreed\Models\Presentaties\background_pictures\logo wit\RO_VW_diap.png"/>
          <p:cNvPicPr/>
          <p:nvPr/>
        </p:nvPicPr>
        <p:blipFill>
          <a:blip r:embed="rId2"/>
          <a:srcRect l="46453" t="15445" r="46293" b="20654"/>
          <a:stretch/>
        </p:blipFill>
        <p:spPr>
          <a:xfrm>
            <a:off x="4376880" y="0"/>
            <a:ext cx="393480" cy="75888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Click to edit the title text format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66200" y="2068560"/>
            <a:ext cx="84013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ftr" idx="23"/>
          </p:nvPr>
        </p:nvSpPr>
        <p:spPr>
          <a:xfrm>
            <a:off x="4356000" y="6524280"/>
            <a:ext cx="3097440" cy="20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4"/>
          </p:nvPr>
        </p:nvSpPr>
        <p:spPr>
          <a:xfrm>
            <a:off x="466560" y="6611400"/>
            <a:ext cx="190512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6CAC-A6C7-43FC-A3DE-7CB1E9D60B9E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dt" idx="25"/>
          </p:nvPr>
        </p:nvSpPr>
        <p:spPr>
          <a:xfrm>
            <a:off x="7264080" y="6611400"/>
            <a:ext cx="1508040" cy="1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ffffff"/>
                </a:solidFill>
                <a:latin typeface="Verdan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DF231-0281-4BEE-B158-4067C9600D4C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A4277-D7CD-494B-BEAE-A80677FE77CE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7818F352-10E6-49AF-82D4-EEFCC767BBB2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rcRect l="0" t="0" r="0" b="3390"/>
          <a:stretch/>
        </p:blipFill>
        <p:spPr>
          <a:xfrm>
            <a:off x="2548080" y="1413000"/>
            <a:ext cx="6561000" cy="4103640"/>
          </a:xfrm>
          <a:prstGeom prst="rect">
            <a:avLst/>
          </a:prstGeom>
          <a:ln w="0">
            <a:noFill/>
          </a:ln>
        </p:spPr>
      </p:pic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95280" y="907920"/>
            <a:ext cx="8400960" cy="73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ver zitten we af van doelbereik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pic>
        <p:nvPicPr>
          <p:cNvPr id="583" name="Picture 2" descr=""/>
          <p:cNvPicPr/>
          <p:nvPr/>
        </p:nvPicPr>
        <p:blipFill>
          <a:blip r:embed="rId2"/>
          <a:stretch/>
        </p:blipFill>
        <p:spPr>
          <a:xfrm>
            <a:off x="0" y="4292640"/>
            <a:ext cx="567540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6200" y="1125360"/>
            <a:ext cx="8401320" cy="49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600" spc="-1" strike="noStrike">
                <a:solidFill>
                  <a:srgbClr val="cc003d"/>
                </a:solidFill>
                <a:latin typeface="Verdana"/>
              </a:rPr>
              <a:t>“</a:t>
            </a:r>
            <a:r>
              <a:rPr b="0" lang="nl-NL" sz="2600" spc="-1" strike="noStrike">
                <a:solidFill>
                  <a:srgbClr val="cc003d"/>
                </a:solidFill>
                <a:latin typeface="Verdana"/>
              </a:rPr>
              <a:t>Hoe schoon willen we ons water?” 4 april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585" name="Tijdelijke aanduiding voor dianummer 4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D2760-8F7E-4451-A3E0-F5E7B65D6A3F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ijdelijke aanduiding voor datum 5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3D20167E-9B88-4350-BF86-E440731D2821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ijdelijke aanduiding voor voettekst 6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8" name="Picture 2" descr="http://www.omroepflevoland.nl/SiteFiles/temp/9b9ed6c2f055091456047c9f9f598b6f-635x358.png"/>
          <p:cNvPicPr/>
          <p:nvPr/>
        </p:nvPicPr>
        <p:blipFill>
          <a:blip r:embed="rId1"/>
          <a:srcRect l="24409" t="13499" r="0" b="0"/>
          <a:stretch/>
        </p:blipFill>
        <p:spPr>
          <a:xfrm>
            <a:off x="4427640" y="1844640"/>
            <a:ext cx="3039840" cy="194472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4" descr="http://www.hsvog.nl/bcwa/afbeeldingen/flora/blauwalg%202.jpg"/>
          <p:cNvPicPr/>
          <p:nvPr/>
        </p:nvPicPr>
        <p:blipFill>
          <a:blip r:embed="rId2"/>
          <a:stretch/>
        </p:blipFill>
        <p:spPr>
          <a:xfrm>
            <a:off x="611280" y="1916280"/>
            <a:ext cx="2571480" cy="1873080"/>
          </a:xfrm>
          <a:prstGeom prst="rect">
            <a:avLst/>
          </a:prstGeom>
          <a:ln w="0">
            <a:noFill/>
          </a:ln>
        </p:spPr>
      </p:pic>
      <p:sp>
        <p:nvSpPr>
          <p:cNvPr id="590" name="PIJL-RECHTS 9"/>
          <p:cNvSpPr/>
          <p:nvPr/>
        </p:nvSpPr>
        <p:spPr>
          <a:xfrm>
            <a:off x="3419640" y="2349360"/>
            <a:ext cx="936360" cy="4320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046f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Picture 2" descr="http://www.vis-vakanties.nl/wp-content/uploads/karper.jpg"/>
          <p:cNvPicPr/>
          <p:nvPr/>
        </p:nvPicPr>
        <p:blipFill>
          <a:blip r:embed="rId3"/>
          <a:stretch/>
        </p:blipFill>
        <p:spPr>
          <a:xfrm>
            <a:off x="611280" y="3960720"/>
            <a:ext cx="2665440" cy="198936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4" descr="http://1.bp.blogspot.com/-iQAceeGMvdQ/ToN6QKuLBpI/AAAAAAAAHnc/KEKc4gbjcq0/s1600/270911-01.JPG"/>
          <p:cNvPicPr/>
          <p:nvPr/>
        </p:nvPicPr>
        <p:blipFill>
          <a:blip r:embed="rId4"/>
          <a:srcRect l="0" t="18020" r="8965" b="0"/>
          <a:stretch/>
        </p:blipFill>
        <p:spPr>
          <a:xfrm>
            <a:off x="4427640" y="3933720"/>
            <a:ext cx="1944720" cy="1309680"/>
          </a:xfrm>
          <a:prstGeom prst="rect">
            <a:avLst/>
          </a:prstGeom>
          <a:ln w="0">
            <a:noFill/>
          </a:ln>
        </p:spPr>
      </p:pic>
      <p:sp>
        <p:nvSpPr>
          <p:cNvPr id="593" name="PIJL-RECHTS 12"/>
          <p:cNvSpPr/>
          <p:nvPr/>
        </p:nvSpPr>
        <p:spPr>
          <a:xfrm>
            <a:off x="3419640" y="4508640"/>
            <a:ext cx="936360" cy="433080"/>
          </a:xfrm>
          <a:prstGeom prst="rightArrow">
            <a:avLst>
              <a:gd name="adj1" fmla="val 50000"/>
              <a:gd name="adj2" fmla="val 49898"/>
            </a:avLst>
          </a:prstGeom>
          <a:solidFill>
            <a:srgbClr val="046f9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Picture 6" descr="http://www.kneitebijters.nl/details/image.php?image=../catalogus/afbeeldingen/groot/1344639567ruisvoorn.jpg&amp;maxim_size=625"/>
          <p:cNvPicPr/>
          <p:nvPr/>
        </p:nvPicPr>
        <p:blipFill>
          <a:blip r:embed="rId5"/>
          <a:stretch/>
        </p:blipFill>
        <p:spPr>
          <a:xfrm>
            <a:off x="4427640" y="5229360"/>
            <a:ext cx="1920600" cy="10080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8" descr="http://www.vistips.nl/website/images/paling__mei_juni_2006.jpg"/>
          <p:cNvPicPr/>
          <p:nvPr/>
        </p:nvPicPr>
        <p:blipFill>
          <a:blip r:embed="rId6"/>
          <a:stretch/>
        </p:blipFill>
        <p:spPr>
          <a:xfrm>
            <a:off x="6300720" y="4653000"/>
            <a:ext cx="1656000" cy="123804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0" descr="http://www.wsvermelo.info/wsvermelo.info/images/WSVErmelo/website-artikelen/Zwemmer.jpg"/>
          <p:cNvPicPr/>
          <p:nvPr/>
        </p:nvPicPr>
        <p:blipFill>
          <a:blip r:embed="rId7"/>
          <a:stretch/>
        </p:blipFill>
        <p:spPr>
          <a:xfrm>
            <a:off x="6524640" y="2205000"/>
            <a:ext cx="240336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705A-3069-4397-B161-7A238B9C3997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E2F751D6-3498-43D6-A291-A3908CC021C1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19040" y="2276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56944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 (all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25% door betere indicator dan ‘one-out-all-out’ (rij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Verdana"/>
              </a:rPr>
              <a:t>25% door realistischere doelformulering (waterbeheerder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179280" y="765000"/>
            <a:ext cx="8964720" cy="1440000"/>
          </a:xfrm>
          <a:prstGeom prst="rect">
            <a:avLst/>
          </a:prstGeom>
          <a:solidFill>
            <a:srgbClr val="bae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PBL 2012: “Kwaliteit voldoet voor meeste gebruiksfuncties, maar nog een opgave voor natuur en risico’s voor drinkwater bereiding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F5D5-99E5-41EF-AD9F-964963FA9053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94EA50D7-7C8F-439C-AE29-412C13B5DCAE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19040" y="1052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74560" y="1773000"/>
            <a:ext cx="8569440" cy="115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-195480">
              <a:spcBef>
                <a:spcPts val="45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25% door betere indicator dan ‘one-out-all-out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realistischere doelformul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-1954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realistischere doelformulering waterbeheerd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195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0" name="Grafiek 16" descr=""/>
          <p:cNvPicPr/>
          <p:nvPr/>
        </p:nvPicPr>
        <p:blipFill>
          <a:blip r:embed="rId1"/>
          <a:stretch/>
        </p:blipFill>
        <p:spPr>
          <a:xfrm>
            <a:off x="-6480" y="2773440"/>
            <a:ext cx="915696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37EA-AB19-4106-B795-FFA06B5BDDEB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418CCD38-7A29-4FDB-9A11-4C1B37F7BBB0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19040" y="1052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74560" y="1773360"/>
            <a:ext cx="8569440" cy="20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betere indicator dan ‘one-out-all-out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25% door realistischere doelformul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0000"/>
                </a:solidFill>
                <a:latin typeface="Verdana"/>
              </a:rPr>
              <a:t>Achtergrondconcentraties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Afstand van GEP tot 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(O-i-a-i / o-o-a-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3419640" y="4097160"/>
          <a:ext cx="5688000" cy="2643480"/>
        </p:xfrm>
        <a:graphic>
          <a:graphicData uri="http://schemas.openxmlformats.org/drawingml/2006/table">
            <a:tbl>
              <a:tblPr/>
              <a:tblGrid>
                <a:gridCol w="1944360"/>
                <a:gridCol w="1955880"/>
                <a:gridCol w="1787760"/>
              </a:tblGrid>
              <a:tr h="638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g/l      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g/l       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ormer/Jis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,54        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5        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ur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20        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8        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ijde Worm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63        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27        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48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m. polde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29        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08       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eerhugowaa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3        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6        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Waal/Bur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,01        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19        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</a:tbl>
          </a:graphicData>
        </a:graphic>
      </p:graphicFrame>
      <p:sp>
        <p:nvSpPr>
          <p:cNvPr id="618" name="Rectangle 3"/>
          <p:cNvSpPr/>
          <p:nvPr/>
        </p:nvSpPr>
        <p:spPr>
          <a:xfrm>
            <a:off x="0" y="5373720"/>
            <a:ext cx="33480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goed voorbeeld bij Hoogheemraadschap Hollands Noorderkwart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8BB54-4FAE-436B-A2C9-4D18277A7E61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43FC4A4-C7FA-4D2E-9F94-C6937D37D61A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19040" y="1052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74560" y="1773360"/>
            <a:ext cx="8569440" cy="20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betere indicator dan ‘one-out-all-out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25% door realistischere doelformul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Achtergrondconcentraties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0000"/>
                </a:solidFill>
                <a:latin typeface="Verdana"/>
              </a:rPr>
              <a:t>Afstand van GEP tot 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(O-i-a-i / o-o-a-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625" name=""/>
          <p:cNvGraphicFramePr/>
          <p:nvPr/>
        </p:nvGraphicFramePr>
        <p:xfrm>
          <a:off x="3419640" y="3500280"/>
          <a:ext cx="5688000" cy="3313440"/>
        </p:xfrm>
        <a:graphic>
          <a:graphicData uri="http://schemas.openxmlformats.org/drawingml/2006/table">
            <a:tbl>
              <a:tblPr/>
              <a:tblGrid>
                <a:gridCol w="1944360"/>
                <a:gridCol w="1955880"/>
                <a:gridCol w="1787760"/>
              </a:tblGrid>
              <a:tr h="6382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antal waterlicha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em. GEP (EK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 fytoplankt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 waterplan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 macrofa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48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M 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fytobenth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33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waterplant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48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macrofau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  <a:tr h="3351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 v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2e0e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ijdelijke aanduiding voor dianummer 5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5D57-DF3F-414E-BA5B-AA5AAD91BB48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ijdelijke aanduiding voor datum 6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AA006584-A218-4971-998D-92DFADBA4B4E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6"/>
          <p:cNvSpPr/>
          <p:nvPr/>
        </p:nvSpPr>
        <p:spPr>
          <a:xfrm>
            <a:off x="5029200" y="6400800"/>
            <a:ext cx="2438280" cy="228600"/>
          </a:xfrm>
          <a:prstGeom prst="rect">
            <a:avLst/>
          </a:prstGeom>
          <a:solidFill>
            <a:srgbClr val="046f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ijdelijke aanduiding voor voettekst 11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19040" y="1052280"/>
            <a:ext cx="84009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Hoe dichten we het ‘doelgat’ tot 2027?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574560" y="1773360"/>
            <a:ext cx="8569440" cy="20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25% door betere indicator dan ‘one-out-all-out’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50% door aanvullende generieke en gebiedsgericht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c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25% door realistischere doelformulering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Achtergrondconcentraties 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c00000"/>
                </a:solidFill>
                <a:latin typeface="Verdana"/>
              </a:rPr>
              <a:t>Afstand van GEP tot GE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00280" indent="-343080">
              <a:spcBef>
                <a:spcPts val="451"/>
              </a:spcBef>
              <a:buClr>
                <a:srgbClr val="c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c00000"/>
                </a:solidFill>
                <a:latin typeface="Verdana"/>
              </a:rPr>
              <a:t>(O-i-a-i / o-o-a-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2" name="Picture 2" descr=""/>
          <p:cNvPicPr/>
          <p:nvPr/>
        </p:nvPicPr>
        <p:blipFill>
          <a:blip r:embed="rId1"/>
          <a:stretch/>
        </p:blipFill>
        <p:spPr>
          <a:xfrm>
            <a:off x="2162160" y="3789360"/>
            <a:ext cx="7018200" cy="3743280"/>
          </a:xfrm>
          <a:prstGeom prst="rect">
            <a:avLst/>
          </a:prstGeom>
          <a:ln w="0">
            <a:noFill/>
          </a:ln>
        </p:spPr>
      </p:pic>
      <p:sp>
        <p:nvSpPr>
          <p:cNvPr id="633" name="Rectangle 3"/>
          <p:cNvSpPr/>
          <p:nvPr/>
        </p:nvSpPr>
        <p:spPr>
          <a:xfrm>
            <a:off x="34920" y="5516640"/>
            <a:ext cx="2449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N norm beken van 4 naar 2,3 mg/l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Picture 2" descr="Henk Bleker"/>
          <p:cNvPicPr/>
          <p:nvPr/>
        </p:nvPicPr>
        <p:blipFill>
          <a:blip r:embed="rId2"/>
          <a:stretch/>
        </p:blipFill>
        <p:spPr>
          <a:xfrm>
            <a:off x="395280" y="3824280"/>
            <a:ext cx="13352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66200" y="1293480"/>
            <a:ext cx="84013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3d"/>
                </a:solidFill>
                <a:latin typeface="Verdana"/>
              </a:rPr>
              <a:t>Stellingen</a:t>
            </a:r>
            <a:endParaRPr b="0" lang="en-US" sz="2600" spc="-1" strike="noStrike">
              <a:solidFill>
                <a:srgbClr val="cc003d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66200" y="2068560"/>
            <a:ext cx="81378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&lt;1% Doelbereik en perceptie van ‘te schoon water’ zijn onverenigbaar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Verwarring bij bestuurders, niet uit te leggen aan burg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isico op verlies draagvlak voor financiering van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‘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ruk op landbouw houden’ is géén goed argument om met doelen te pruts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ndbouw is niet meer een probleem overal en altijd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aar lokaal en specifiek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t besef is nodig voor behoud draagvlak en het vinden van kosten-effectieve maatregel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Tijdelijke aanduiding voor dianummer 4"/>
          <p:cNvSpPr/>
          <p:nvPr/>
        </p:nvSpPr>
        <p:spPr>
          <a:xfrm>
            <a:off x="466560" y="6611760"/>
            <a:ext cx="190512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DA54E-3E4A-4956-852F-E3DD7BC96255}" type="slidenum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Tijdelijke aanduiding voor datum 5"/>
          <p:cNvSpPr/>
          <p:nvPr/>
        </p:nvSpPr>
        <p:spPr>
          <a:xfrm>
            <a:off x="7264440" y="6611760"/>
            <a:ext cx="1508040" cy="1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fld id="{04587D6E-BF0A-42D1-B197-8332740216A5}" type="datetime3"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28 juli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ijdelijke aanduiding voor voettekst 6"/>
          <p:cNvSpPr/>
          <p:nvPr/>
        </p:nvSpPr>
        <p:spPr>
          <a:xfrm>
            <a:off x="4356000" y="6524640"/>
            <a:ext cx="3097440" cy="2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r>
              <a:rPr b="0" lang="nl-NL" sz="1000" spc="-1" strike="noStrike">
                <a:solidFill>
                  <a:srgbClr val="ffffff"/>
                </a:solidFill>
                <a:latin typeface="Verdana"/>
                <a:ea typeface="Arial"/>
              </a:rPr>
              <a:t>Ministerie van Infrastructuur en Milie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2T14:26:54Z</dcterms:created>
  <dc:creator>DMolen</dc:creator>
  <dc:description/>
  <dc:language>en-US</dc:language>
  <cp:lastModifiedBy>steina</cp:lastModifiedBy>
  <dcterms:modified xsi:type="dcterms:W3CDTF">2014-04-25T11:15:46Z</dcterms:modified>
  <cp:revision>50</cp:revision>
  <dc:subject/>
  <dc:title>Verder na het Sterkenburg beraad</dc:title>
</cp:coreProperties>
</file>