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38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39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 type="sldNum" idx="40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C12D1-9A17-4AE0-A2DF-3284328647CE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X-as landen, Y-as percentage waterlicha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auw % wateren dat aan het doel voldoet, rood % wateren waarvoor ontheffing is gemotiveerd: doelen worden niet gehaald in 201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 bijna rechts, doelgat van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eld  door de Europese Commissie neergez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n overgenomen door van PBL, CSB, Algemene Rekenkamer, OECD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helemaal terecht, zo onderkent ook de Eur C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 one-out-all-out : als 1 parameter niet goed is dan hele waterlichaam niet goed. Hier wreekt zich dat NL het meest complete meetprogramma en beoordelingssysteem heeft. Fr en Sp hebben nog geen vissen geme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ik de toestand in NL zou beoordelen dan zou ik me aansluiten bij constatering PB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6451-8AE4-4C00-AF62-36ED40FECB0C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8C34A-5412-4914-9CF7-52B9420FA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B6BC1-16C7-4A97-A08E-8BB4FC7A0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21D9B-7049-4C32-9615-7588ED33F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FFFFA8-2B52-4478-AC9C-1E806BA4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A080B-4FE8-49DB-B218-8BC01DDB5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31C24C-4DA2-4C44-8556-B6A03F900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B65B1-57A4-4B14-9076-F49F30C1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75FD3-0B61-4A50-91EA-61221E15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F6D9C-BABE-4808-92E3-1AD7E6EB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F776CF-F08B-4C9E-8CB1-A7B2518A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7DDF2-778C-4427-8639-8400F82C1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D3EE72A-5FE8-4CD7-B7DE-C23B69CD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BC189-6420-4D16-B873-612D88FA0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56EA61F-31BC-4104-B301-D1FC77629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161021-9A6E-46D4-AD39-39F8F171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AF668D-3F9B-43F3-97DC-83CAA1E2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681A1A9-18D2-431E-81B9-26E9429F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9D5F86C-83A4-49A6-872A-5C0B15CA8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B01D796-1570-4904-96F9-45A664E68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DF3B5B6-EA8B-424F-933D-29386682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D6CEE9-5194-46F9-A9EE-50546629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CB21FB-1856-4EF3-A51A-F5A5E18F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66D0FD8-6E0F-4F20-94ED-05DFAF565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524E-457B-4BAF-A555-74C9945DF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B22ACC-8121-48BB-8D9E-E0DD9550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D9D1869-22F6-4E62-87EF-994EA18E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EDC24F-3EE7-43B6-8E78-D439BDB4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DE39C7-DC2A-4297-870F-7D76D07BF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694C327-75B1-419C-A328-C92F2B0D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FD7D15-4FF2-499C-BE2F-CE567687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5767E44-6B9D-4C81-AEE5-FB5677A8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B9743E-8622-45F0-9983-C1FFCBF9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D2D9C9F-D90D-401C-82E6-0FCCB598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FA5E01-2B5D-4354-8D30-394214A0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D948876-4125-4623-B2AE-1C2C7ADC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93D8FBB-86EB-4631-82BA-B75838094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550384-08D6-40C6-812B-E617B02C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8B587D4-3609-4A79-8A53-EB5880DB7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E97DFAC-12FF-4539-945F-9B3CBB5D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F2C7DE-3B55-4827-9466-79C28232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6F9AEE5-7C3B-4DD6-B082-68E95C0D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221E6B0-47AD-4615-BF50-A6E18312E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06A2266-880F-4429-AB10-63677D112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A1E4C4D-F79D-45F4-A549-DC4E87E3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A5DD0D0-723D-4A60-AAE3-EDDD26DF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632A296-D6D6-482A-96C7-80F7650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558252-9F7C-4F32-8984-3AB95D25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318739-982B-45F6-848A-AEF57596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05B8CC-6B80-4217-964E-9761079B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5B3091E-A57B-4848-AF11-E49743289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7BF994E-FDF4-42B6-AD00-14C24B41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3C85503-F789-490C-8501-68EAC05BA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28FDAA5-010B-4CF2-A9B4-D47E4B53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8C99BA-2E7D-43DF-807A-4A784E47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1989C4B-55A4-4F9B-9529-652FD489D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BFA3229-3A76-4369-8486-277B3481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3D9463-48F6-4F19-8732-03DD6289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36D0033-FB2F-4DEB-84DF-C50EB957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C02E139-9DFF-455A-BE92-FCC431C0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A1720FE-5F6F-408F-8EDE-5A2F135C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F9A44F-BAB7-4581-8CB1-5E9ADD6A1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29EB1F-870A-47C1-A5EF-CB52F4A7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9FBF2-AB9C-475B-BDBD-8C26B8C58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4FCCBB-8796-41A0-82DA-A0957454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B359D-E1F8-41DF-B2FD-7A01505B1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9BAC64-D1CA-470A-A9C9-BF454AAF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18335-0739-4572-93BC-0099A701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22C6-92A6-4F41-A4F5-ACD952AF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31641-732C-47B0-A39F-F0A3EEC1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F5D84F-C5FB-4608-8847-4C2E524A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C08F65-26AD-4B8F-8FBA-D6A15983A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E89029-1220-4B08-B569-CA1BDA4F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3799C5-C7AE-43FF-82A4-F91424B5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E10F3-CD8A-495B-8250-AB5942F95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2DF015-6074-4FBE-B0BF-BD20AAFE9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D9281F-F6F3-4BB3-9E02-D43A23261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7BB6C4-9CA6-4C03-8478-5AD3746C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786CA0-94CA-4B41-AF3C-5B18AC8A2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C2DB9-86BE-4569-83AF-29F945FFA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56D842-5EB2-4AA9-93F3-550C62D7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BD3BB0-F135-4445-AAB8-63385AAE3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F28610-5A90-4D1B-A032-649BE3B03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0C1E4B-1047-437B-ACB9-EDB45AAE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93ADFC-3463-42DB-A63A-DE496FB3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64DD9D-B736-41BA-A54A-92D9453FD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2BFCA-E9A5-499B-B152-C8EC26ED8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C048E4-9166-4486-B45A-4E8836C4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549A3F-35A8-47EB-821A-691364938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1D799C-EEF8-4F8A-9F50-3E86DAC1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5BEBD-ADA0-4262-84AE-C1E949A99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10AD33-D72C-4611-A821-678C16E3A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F809DC-1F04-482B-B9F8-A9468AFE2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F66A7-6192-460C-8184-4865416E9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DDA064-DDDF-45F3-9206-09186C32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D81537-C6F6-4780-BE8C-B60BC847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46BEB0-DC17-43DA-BFFE-295FA944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67232E-F8D2-4D8C-92A2-9723EEE47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055017-99F7-490B-91B3-B2502012F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AB441-1B1A-41E8-9488-72788B80F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F88854-4F40-4203-AE91-4AA02D385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4A26-7FA3-445F-A634-B5FF8D51A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8284E3-CDCA-43DA-A57C-10E5B7BE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EECDB-3677-4D09-9E0E-2F752C5AB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A06B19-792B-4251-994B-8EFDBA407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6AFD32-7A94-4125-B28A-AB6C66574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F889F-7079-47BF-A39F-E89E988F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E192E4-FA0D-4800-8D72-E9BE0DD7E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358A52-FA51-47C5-8AA2-CFAB705E8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3364F-DD7E-4399-B9D9-3227B51D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F06B78-A9E1-4EEC-B134-928869FF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A7BECB-821B-4A8C-9FD9-7DBAB722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BBFDF-5F6E-4E13-8889-6C4AC4834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3EB759-3B22-4011-88F1-FB8577F7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B27BF3-B2BF-4719-9813-69682266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AF900A-740A-448A-84B8-2D0C7B4A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023451D-2EBC-40DE-9AF2-59E8A02B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0701A71-A619-46B2-8039-07B8BC07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7C608-EB5C-415E-8BC0-BD14AAA79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CD3A93-550C-4225-9E7B-0BDE4BA0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885F93-A954-4421-A52A-746FD0D6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4B091E-541C-4CA3-8031-DC4B367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AECBEA-7BF7-4532-B5FA-DC6ADC01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D50E7-A731-4B9B-8F8E-706A5C5B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D9B3EC9-EA56-4C22-89F1-42212339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3F4B7A-2809-4A1B-BDAE-164852301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57EB3A-DAA3-4279-8334-92DDCD65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B2C4F5-744A-42B9-9425-1F186084F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9F7F91F-315C-49AD-9758-3F91EA0C8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DAB085-BF99-4172-8494-F8F6EC0F6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289E03-D923-448A-88B4-316C9727D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BB27F6-31BB-40C4-9A8E-D4400F9A4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B632C4D-B638-4309-8D55-A2F6A507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6FCD4A-493B-4452-BE80-8C0D05F0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69525-694B-42B5-BC0E-EFE88804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65F726-186E-4AAA-8FBF-54120645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388EA-7B2E-4924-ABD4-9E6CDCAD7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4EAD21-C4CA-449A-8CD5-82A05E70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9C962C-5AA1-4D25-AE1F-ADE618C8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6EC4B7-0374-4A4F-B195-089B7EA3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F6ED4C-4002-48D1-8B3E-20F50706B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6A3381-F892-44A0-BA95-EB33B28DE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4ED19-6D98-4DD2-85F3-F58190B30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B8449-C96A-40C6-97D1-4B4DF9ACD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F85F6F-BA1E-4B2F-A771-42392FE5B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0FEA-5371-4A1E-8E44-B28F5378766C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1519-C939-48D5-8273-F2ED4B90661A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355640" y="6524280"/>
            <a:ext cx="273708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6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01C3-C950-496F-93D3-B23A662B82B1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dt" idx="27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501C-764A-42D5-994F-D84778981096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28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9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9D0EB-91D7-4BCB-8E79-C9DF455E6DD8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dt" idx="30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EE17-41F3-4B77-B083-2E5E6AAD4D8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31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2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7DF5-ACDA-49BA-8CCD-3453ED0855D0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dt" idx="33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40EA-CE71-4D2D-B025-09D169C8510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4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5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7BCD-AFF0-445C-B82A-FEA7FD8792F5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6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17520-474E-49A6-92BC-CDE2E3D5FD6C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7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62640" y="0"/>
            <a:ext cx="4581360" cy="68580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Z:\KA\Carma\DocSys\Customers\VenW Rijksbreed\Models\Presentaties\background_pictures\logo wit\RO_VW_diap.png"/>
          <p:cNvPicPr/>
          <p:nvPr/>
        </p:nvPicPr>
        <p:blipFill>
          <a:blip r:embed="rId2"/>
          <a:srcRect l="46453" t="0" r="45685" b="20658"/>
          <a:stretch/>
        </p:blipFill>
        <p:spPr>
          <a:xfrm>
            <a:off x="4262400" y="0"/>
            <a:ext cx="669960" cy="147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:\AAA Logo's Infrastructuur en Milieu\IenM\Woordmerk voor Powerpoint_diap.png"/>
          <p:cNvPicPr/>
          <p:nvPr/>
        </p:nvPicPr>
        <p:blipFill>
          <a:blip r:embed="rId3"/>
          <a:stretch/>
        </p:blipFill>
        <p:spPr>
          <a:xfrm>
            <a:off x="4940280" y="609480"/>
            <a:ext cx="3822840" cy="865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6760" y="6515280"/>
            <a:ext cx="39322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FEDB-2638-4CE6-A935-045D2924D5B6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4AE7-FC3E-4962-B4C4-10FE176434EB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6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A0E8-9C77-46A0-98B2-8351B7C1AFDD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D2A7-B64F-4762-A80C-8320A24FC39A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9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CFB9-E409-43F7-B9FF-E877D1EEF4F2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1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FA4-E809-47CC-AC81-7B4576FBEF98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2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AF31-39E9-4BA2-BFEF-69AA7A15B63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4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89F6-4876-4743-A665-570CE93F23BF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5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6577-1CBF-4CC0-BB2D-BF4346A52CB3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6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7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4F7E-AF8E-4CB9-A7F5-BF4EE2CE2C77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8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0524-3D6B-4806-A7BA-78B9DBB4D026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9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0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77BD-178A-4964-8CE2-C0F35820BF70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dt" idx="21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C437-00B0-4133-B790-B258706DA225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2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9BE06-2866-41B6-9159-B9C773BA7195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5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FC04E-8875-4E14-8C58-B5BE4F170C6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C0481-A879-4F27-BC5A-F2790CBA8EEA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E8519DA-302D-44B3-B4A2-FAF325CA0DDF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rcRect l="0" t="0" r="0" b="3390"/>
          <a:stretch/>
        </p:blipFill>
        <p:spPr>
          <a:xfrm>
            <a:off x="2548080" y="1413000"/>
            <a:ext cx="6561000" cy="41036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400960" cy="7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ver zitten we af van doelbereik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5675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6200" y="1125360"/>
            <a:ext cx="84013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3d"/>
                </a:solidFill>
                <a:latin typeface="Verdana"/>
              </a:rPr>
              <a:t>“</a:t>
            </a:r>
            <a:r>
              <a:rPr b="0" lang="nl-NL" sz="2600" spc="-1" strike="noStrike">
                <a:solidFill>
                  <a:srgbClr val="cc003d"/>
                </a:solidFill>
                <a:latin typeface="Verdana"/>
              </a:rPr>
              <a:t>Hoe schoon willen we ons water?” 4 april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85" name="Tijdelijke aanduiding voor dianummer 4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CC58-0B20-4046-9D74-CB49452EAE8D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ijdelijke aanduiding voor datum 5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C2921B6-26ED-476A-BAA8-1084C2B203F3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ijdelijke aanduiding voor voettekst 6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" descr="http://www.omroepflevoland.nl/SiteFiles/temp/9b9ed6c2f055091456047c9f9f598b6f-635x358.png"/>
          <p:cNvPicPr/>
          <p:nvPr/>
        </p:nvPicPr>
        <p:blipFill>
          <a:blip r:embed="rId1"/>
          <a:srcRect l="24409" t="13499" r="0" b="0"/>
          <a:stretch/>
        </p:blipFill>
        <p:spPr>
          <a:xfrm>
            <a:off x="4427640" y="1844640"/>
            <a:ext cx="3039840" cy="1944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http://www.hsvog.nl/bcwa/afbeeldingen/flora/blauwalg%202.jpg"/>
          <p:cNvPicPr/>
          <p:nvPr/>
        </p:nvPicPr>
        <p:blipFill>
          <a:blip r:embed="rId2"/>
          <a:stretch/>
        </p:blipFill>
        <p:spPr>
          <a:xfrm>
            <a:off x="611280" y="1916280"/>
            <a:ext cx="2571480" cy="1873080"/>
          </a:xfrm>
          <a:prstGeom prst="rect">
            <a:avLst/>
          </a:prstGeom>
          <a:ln w="0">
            <a:noFill/>
          </a:ln>
        </p:spPr>
      </p:pic>
      <p:sp>
        <p:nvSpPr>
          <p:cNvPr id="590" name="PIJL-RECHTS 9"/>
          <p:cNvSpPr/>
          <p:nvPr/>
        </p:nvSpPr>
        <p:spPr>
          <a:xfrm>
            <a:off x="3419640" y="2349360"/>
            <a:ext cx="936360" cy="4320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046f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http://www.vis-vakanties.nl/wp-content/uploads/karper.jpg"/>
          <p:cNvPicPr/>
          <p:nvPr/>
        </p:nvPicPr>
        <p:blipFill>
          <a:blip r:embed="rId3"/>
          <a:stretch/>
        </p:blipFill>
        <p:spPr>
          <a:xfrm>
            <a:off x="611280" y="3960720"/>
            <a:ext cx="2665440" cy="198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http://1.bp.blogspot.com/-iQAceeGMvdQ/ToN6QKuLBpI/AAAAAAAAHnc/KEKc4gbjcq0/s1600/270911-01.JPG"/>
          <p:cNvPicPr/>
          <p:nvPr/>
        </p:nvPicPr>
        <p:blipFill>
          <a:blip r:embed="rId4"/>
          <a:srcRect l="0" t="18020" r="8965" b="0"/>
          <a:stretch/>
        </p:blipFill>
        <p:spPr>
          <a:xfrm>
            <a:off x="4427640" y="3933720"/>
            <a:ext cx="1944720" cy="1309680"/>
          </a:xfrm>
          <a:prstGeom prst="rect">
            <a:avLst/>
          </a:prstGeom>
          <a:ln w="0">
            <a:noFill/>
          </a:ln>
        </p:spPr>
      </p:pic>
      <p:sp>
        <p:nvSpPr>
          <p:cNvPr id="593" name="PIJL-RECHTS 12"/>
          <p:cNvSpPr/>
          <p:nvPr/>
        </p:nvSpPr>
        <p:spPr>
          <a:xfrm>
            <a:off x="3419640" y="4508640"/>
            <a:ext cx="936360" cy="43308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046f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6" descr="http://www.kneitebijters.nl/details/image.php?image=../catalogus/afbeeldingen/groot/1344639567ruisvoorn.jpg&amp;maxim_size=625"/>
          <p:cNvPicPr/>
          <p:nvPr/>
        </p:nvPicPr>
        <p:blipFill>
          <a:blip r:embed="rId5"/>
          <a:stretch/>
        </p:blipFill>
        <p:spPr>
          <a:xfrm>
            <a:off x="4427640" y="5229360"/>
            <a:ext cx="1920600" cy="100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ttp://www.vistips.nl/website/images/paling__mei_juni_2006.jpg"/>
          <p:cNvPicPr/>
          <p:nvPr/>
        </p:nvPicPr>
        <p:blipFill>
          <a:blip r:embed="rId6"/>
          <a:stretch/>
        </p:blipFill>
        <p:spPr>
          <a:xfrm>
            <a:off x="6300720" y="4653000"/>
            <a:ext cx="1656000" cy="1238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http://www.wsvermelo.info/wsvermelo.info/images/WSVErmelo/website-artikelen/Zwemmer.jpg"/>
          <p:cNvPicPr/>
          <p:nvPr/>
        </p:nvPicPr>
        <p:blipFill>
          <a:blip r:embed="rId7"/>
          <a:stretch/>
        </p:blipFill>
        <p:spPr>
          <a:xfrm>
            <a:off x="6524640" y="2205000"/>
            <a:ext cx="24033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D98F-531F-4A5E-8E5D-EBE134E05B02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9287705-4A10-4417-9A75-391F681655B8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9040" y="2276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 (a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25% door betere indicator dan ‘one-out-all-out’ (rij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25% door realistischere doelformulering (waterbeheerd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179280" y="765000"/>
            <a:ext cx="8964720" cy="1440000"/>
          </a:xfrm>
          <a:prstGeom prst="rect">
            <a:avLst/>
          </a:prstGeom>
          <a:solidFill>
            <a:srgbClr val="bae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BL 2012: “Kwaliteit voldoet voor meeste gebruiksfuncties, maar nog een opgave voor natuur en risico’s voor drinkwater bereid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26D5B-B41B-4062-8347-A2E5BDC9E4C2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13483CD6-63E9-4EDA-8DF5-874A763FB018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4560" y="1773000"/>
            <a:ext cx="856944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realistischere doelformulering waterbeheer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Grafiek 16" descr=""/>
          <p:cNvPicPr/>
          <p:nvPr/>
        </p:nvPicPr>
        <p:blipFill>
          <a:blip r:embed="rId1"/>
          <a:stretch/>
        </p:blipFill>
        <p:spPr>
          <a:xfrm>
            <a:off x="-6480" y="2773440"/>
            <a:ext cx="91569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D135-5039-4EC0-8028-C8BB501D9D91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5A1184A8-8863-41D0-9698-BC705A293EC4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419640" y="4097160"/>
          <a:ext cx="5688000" cy="2643480"/>
        </p:xfrm>
        <a:graphic>
          <a:graphicData uri="http://schemas.openxmlformats.org/drawingml/2006/table">
            <a:tbl>
              <a:tblPr/>
              <a:tblGrid>
                <a:gridCol w="1944360"/>
                <a:gridCol w="1955880"/>
                <a:gridCol w="1787760"/>
              </a:tblGrid>
              <a:tr h="638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/l     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/l     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ormer/Ji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54       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5        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0       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8     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jde Wo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63        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7     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m. pol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9       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8      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erhugowa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3       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6       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al/Bu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1    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9    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</a:tbl>
          </a:graphicData>
        </a:graphic>
      </p:graphicFrame>
      <p:sp>
        <p:nvSpPr>
          <p:cNvPr id="618" name="Rectangle 3"/>
          <p:cNvSpPr/>
          <p:nvPr/>
        </p:nvSpPr>
        <p:spPr>
          <a:xfrm>
            <a:off x="0" y="5373720"/>
            <a:ext cx="33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oed voorbeeld bij Hoogheemraadschap Hollands Noorderkwar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24356-B436-4F57-9DB1-5E7D0C723BD7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363E6E3-2552-418C-9924-FAE3D062D1E8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419640" y="3500280"/>
          <a:ext cx="5688000" cy="3313440"/>
        </p:xfrm>
        <a:graphic>
          <a:graphicData uri="http://schemas.openxmlformats.org/drawingml/2006/table">
            <a:tbl>
              <a:tblPr/>
              <a:tblGrid>
                <a:gridCol w="1944360"/>
                <a:gridCol w="1955880"/>
                <a:gridCol w="1787760"/>
              </a:tblGrid>
              <a:tr h="638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antal waterlich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m. GEP (EK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fytoplank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waterpla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macrofa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fytobent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waterpla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macrofa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AA950-6171-4486-87FA-32FC3C5334AB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27554E37-ECF4-4A66-BCFC-6A92DB181680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2162160" y="3789360"/>
            <a:ext cx="7018200" cy="3743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34920" y="5516640"/>
            <a:ext cx="244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 norm beken van 4 naar 2,3 mg/l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2" descr="Henk Bleker"/>
          <p:cNvPicPr/>
          <p:nvPr/>
        </p:nvPicPr>
        <p:blipFill>
          <a:blip r:embed="rId2"/>
          <a:stretch/>
        </p:blipFill>
        <p:spPr>
          <a:xfrm>
            <a:off x="395280" y="3824280"/>
            <a:ext cx="13352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Stellingen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137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1% Doelbereik en perceptie van ‘te schoon water’ zijn onverenigba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warring bij bestuurders, niet uit te leggen aan burg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ico op verlies draagvlak voor financiering van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uk op landbouw houden’ is géén goed argument om met doelen te prut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ndbouw is niet meer een probleem overal en altij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ar lokaal en specifi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t besef is nodig voor behoud draagvlak en het vinden van kosten-effectiev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ijdelijke aanduiding voor dianummer 4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33B8-6AD5-484C-964A-A6601DC7BEEF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ijdelijke aanduiding voor datum 5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E9EECC9-4FA0-4139-AA20-D45A48C83B9B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ijdelijke aanduiding voor voettekst 6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4:26:54Z</dcterms:created>
  <dc:creator>DMolen</dc:creator>
  <dc:description/>
  <dc:language>en-US</dc:language>
  <cp:lastModifiedBy>steina</cp:lastModifiedBy>
  <dcterms:modified xsi:type="dcterms:W3CDTF">2014-04-25T11:15:46Z</dcterms:modified>
  <cp:revision>50</cp:revision>
  <dc:subject/>
  <dc:title>Verder na het Sterkenburg beraad</dc:title>
</cp:coreProperties>
</file>